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28CE-CA9D-4E93-95CC-0BCC69D73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D7C4-97F0-4BF6-BED5-5F130427A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7A62E-0737-45B7-8812-C6808E219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7FF0-2234-4E80-9CEC-245DF2FA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8F5A7-BB77-47A5-B395-5B70A8F4A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075E3-AFE2-4704-9C96-D4AAEB6B1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280F7-7996-4E3E-AA52-7C526FD24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81524-43F1-48E2-8FE0-AE7B6E98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020E-22A4-40DF-9029-9AF4789A1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835EC-3024-483A-8117-12B36BFD8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B5FB5-E93C-40E0-8631-B852DBF5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B6D9-E35E-4BC7-82BC-D1A3BC477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66D0-F408-460E-8993-F51D7F5EC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31457-EF3A-472B-B7A8-ED1B4ED53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831E-869C-4D0D-8F1C-67B89A20F9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 PETIT PRINCE</a:t>
            </a:r>
            <a:br>
              <a:rPr sz="4000"/>
            </a:br>
            <a:r>
              <a:rPr b="0" lang="en-US" sz="4000" spc="-1" strike="noStrike">
                <a:solidFill>
                  <a:srgbClr val="000000"/>
                </a:solidFill>
                <a:latin typeface="Calibri"/>
              </a:rPr>
              <a:t>un roman </a:t>
            </a:r>
            <a:br>
              <a:rPr sz="4000"/>
            </a:br>
            <a:r>
              <a:rPr b="0" lang="en-US" sz="4000" spc="-1" strike="noStrike">
                <a:solidFill>
                  <a:srgbClr val="000000"/>
                </a:solidFill>
                <a:latin typeface="Calibri"/>
              </a:rPr>
              <a:t>Antoine de Saint-Exupér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nit Portfolio Present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nise Southwi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Summma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bout to read a novel written in French. Come fly with me to the year 1942 to discover who is the Little Prince. Enrich your knowledge of the French language with a review of verbs (literary past).  Discover who you really are by reading the adventures of an aviator whose plane has broken down in the Sahar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Framing Question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ssential Ques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the true meaning of friendship?</a:t>
            </a:r>
            <a:endParaRPr b="0" lang="en-US" sz="3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 Ques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Choose a danger that menaces our life on the planet.  Parallel that to a danger you have read about in the tex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Discuss how we can personally change our ways of thinking to better understand and appreciate oth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gree/Disagree with this statement and explain your reasoning:  You are responsible always for that which you tame(care fo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 If you were faced with eminent death, about what would you think?  What would you believe was important in lif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Question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Define these symbols in the story: baobabs, the rose,  the snake, the volcanoes, the glass glob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were the first and second drawings of St. Exupé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y did he make the second draw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Where is St. Ex and in what condition do we find hi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What did the young man ask St. Ex to d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What does St. Ex mean when he said he fell from the sk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Who is the only person to have sighted the planet of the Little Princ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How did the Turk finally convince everyone of his discovery of B612?</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 What fact do we learn about the Little Prince when we read the first lines about St. Ex’s preferences in Chapter 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Find two verbs in subjunctive (present), five verbs in the future, two verbs in the preterite and two verbs in the imperfect tense in the first five chapters of the boo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Petit Prince Projec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ject will help my students develop 21</a:t>
            </a:r>
            <a:r>
              <a:rPr b="0" lang="en-US" sz="3200" spc="-1" strike="noStrike" baseline="30000">
                <a:solidFill>
                  <a:srgbClr val="000000"/>
                </a:solidFill>
                <a:latin typeface="Calibri"/>
              </a:rPr>
              <a:t>st</a:t>
            </a:r>
            <a:r>
              <a:rPr b="0" lang="en-US" sz="3200" spc="-1" strike="noStrike">
                <a:solidFill>
                  <a:srgbClr val="000000"/>
                </a:solidFill>
                <a:latin typeface="Calibri"/>
              </a:rPr>
              <a:t> century skills b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ng  in Fren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aborating on min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zing the story content and showing understanding through discussions, journals and using technology to answer the Curriculum Framing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uging Student Needs Assessment</a:t>
            </a:r>
            <a:br>
              <a:rPr sz="4000"/>
            </a:b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rpose: To gather information about what the students already know about French literature and what they wonder about the story of Le Petit Prince.</a:t>
            </a:r>
            <a:endParaRPr b="0" lang="en-US" sz="3200" spc="-1" strike="noStrike">
              <a:solidFill>
                <a:srgbClr val="000000"/>
              </a:solidFill>
              <a:latin typeface="Calibri"/>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I want to learn from my students:  Using the Unit questions, I would like my students to think and analyze the story and characters and not just answer comprehension questions.</a:t>
            </a:r>
            <a:endParaRPr b="0" lang="en-US" sz="3200" spc="-1" strike="noStrike">
              <a:solidFill>
                <a:srgbClr val="000000"/>
              </a:solidFill>
              <a:latin typeface="Calibri"/>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uging Student Needs Assessment</a:t>
            </a:r>
            <a:endParaRPr b="0" lang="en-US" sz="28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 tried to promote higher-order think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ough the use of open-ended questions and mini projects, the students will have to use all seven levels of Bloom—for example: Comparing and Contrasting characters is under the category Analysis.</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will the assessment info help me and my students plan for the rest of the literature study ? If students don’t understand the grammar, we can review formation of the past tenses.  If they are not familiar with the historical background , we can search on the internet for information.</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uging Student Needs Assessmen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hat feedback or additional ideas I would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 would like help on the integration of more technology into this book study. It would be great for some ideas as to specific times in the study to smoothly transition into technology.</a:t>
            </a:r>
            <a:endParaRPr b="0" lang="en-US" sz="3200" spc="-1" strike="noStrike">
              <a:solidFill>
                <a:srgbClr val="000000"/>
              </a:solidFill>
              <a:latin typeface="Calibri"/>
            </a:endParaRPr>
          </a:p>
        </p:txBody>
      </p:sp>
      <p:pic>
        <p:nvPicPr>
          <p:cNvPr id="64" name="Object 2" descr=""/>
          <p:cNvPicPr/>
          <p:nvPr/>
        </p:nvPicPr>
        <p:blipFill>
          <a:blip r:embed="rId1"/>
          <a:stretch/>
        </p:blipFill>
        <p:spPr>
          <a:xfrm>
            <a:off x="7010280" y="4876920"/>
            <a:ext cx="914400" cy="74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y Goals for the cours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nd ways to integrate different kinds of technology in the literature study for both students and mysel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are and gather  ideas for teaching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arpen my computer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6:02:12Z</dcterms:created>
  <dc:creator>teacher</dc:creator>
  <dc:description/>
  <dc:language>en-US</dc:language>
  <cp:lastModifiedBy>teacher</cp:lastModifiedBy>
  <dcterms:modified xsi:type="dcterms:W3CDTF">2009-04-18T13:21:21Z</dcterms:modified>
  <cp:revision>17</cp:revision>
  <dc:subject/>
  <dc:title>LE PETIT PRINCE un roman  Antoine de Saint-Exupéry</dc:title>
</cp:coreProperties>
</file>